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E65-C7D3-493F-854C-F1D40D06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91F5-0B0E-49A0-AD10-2A444FDA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D65-F37E-436A-A3A3-6148B44A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7D6-2D6F-4E84-A3EA-92E99D1D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D9CB-6C8E-4987-85B2-38FFB4E8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FC1C-090A-43B6-84E4-C6FF9F3F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13BB-ED18-4294-8137-DE5FD67A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9BAA-79FD-4D71-8709-68B7F609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3E6E-1786-42E0-B83C-2907AD9D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89A8-FB75-443A-9E4B-5B1336F1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6438-09A3-4CD4-9A0E-01E6B70C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0D9-AC20-4F67-9FCC-812ED472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C5D1-843C-4952-B413-3E1A4FE1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DC8F-45F8-4BCB-B313-E95C8EE2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1D2E-4515-4602-84B0-1261B34E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8A31-C7FE-4487-B141-20A49920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DCD8-70F7-451A-8071-278C6CAC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BE6-9D39-4FA2-AC02-92AEC3FF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727-ADE6-41B9-8631-20F5E81E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570-E285-4766-A3B0-66B98BE2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417-E924-4F3B-9553-B93FED47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964A-3CAD-4EA6-8F6A-24CCEAB1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EF6-5BB7-4142-B50F-50E34C8F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0AD-2D16-4C4D-A674-B8FEE0A0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A523-D777-4A7E-80E2-6662E8203F9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0897-FCDA-4D7D-9A9A-09EE872FAE91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ffffff"/>
                </a:solidFill>
                <a:latin typeface="Times New Roman"/>
                <a:cs typeface="????Boutros Rokaa"/>
              </a:rPr>
              <a:t>طلبة مار الياس</a:t>
            </a:r>
            <a:endParaRPr b="1" lang="en-US" sz="15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نارٌ وإِلى اللهِ سافَرْتَ بنَار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عْدَ حَبْسِ الغَيثِ قَدْ باتَتِ الأرضُ قِفار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جَفَّ أُرْدُنُّكَ لَمْ يُبْقِ للظَّامِي قِطارْ.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دَلَّكَ الروحُ إلى أَيِّمٍ ذاتِ افتِقَار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َلَّلَتْ جَرَّتُها بكَ مَوتُ الجُوعِ مات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على قارُورَةِ الزَّيتِ فَاضَتْ بَرَكَات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زِحْتَ عَنها غَمَّها عُدْتَ للطِّفْلِ الحَياة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طَّمَتْ إِيزابَلٌ أنبيَا الحَقِّ الهُداة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طَرَحَتْ بادِعَها رَفَعَتْ شأْنَ بَعَال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دُ إيليّا عَلَتْ هَدَمَتْ بُرْجَ الضَّلال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َرَمُ الرَّبِّ على الكَرمَلِ انصَبَّ وَسَالَ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إِيليّا أضْمَرَتْ شَرَّ مَوتٍ إيزَابَال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ِنْ لَظَى إيزَابَلٍ كانَ حُورِيبُ المَتَاه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َفْخُ عَصْفٍ فيهِ لَمْ يَكُنِ الربُّ الإِله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ُخْطُ زِلْزَالٍ بهِ لَمْ يَكُ الربُّ الإله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َزْفُ نِيرانٍ بها لَمْ يَكُ الربُّ الإِله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َنَسِيمٌ كالنَّدَى فيهِ لُطْفُ اللهِ ذاب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َوتُ حَقٍّ مُرْجِفٌ غَاصِبَ الحَقِّ أَحاب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ئِمُ الظُلْمِ هَوَى بَينَ أنيَاب الكِلاب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فَّةَ الرُّوحِ على النارِ لاقَتْكَ السماء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شاءَ لِيشَاعُ اكْتَسَى رُوحَ غَيبٍ "بالرِّدَاءْ"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َسأَلُ الربَّ لنا رُوحَ حُبٍّ وعَطَاء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5T11:55:33Z</dcterms:created>
  <dc:creator>Charbel Azar</dc:creator>
  <dc:description/>
  <dc:language>en-US</dc:language>
  <cp:lastModifiedBy>-</cp:lastModifiedBy>
  <dcterms:modified xsi:type="dcterms:W3CDTF">2002-12-22T16:02:41Z</dcterms:modified>
  <cp:revision>9</cp:revision>
  <dc:subject/>
  <dc:title>لأن إلى الأبد رحمته هللوا للر بّ  اعترفوا للربّ فإنّهُ صالحٌ. اعترفوا لإله الالهة وربّ الأرباب لصانع المعجزات العظام وحده والسماوات.</dc:title>
</cp:coreProperties>
</file>